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3AB-1005-4172-84B0-A1BC431F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BA2-7041-4A76-97F1-9C318317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65D-7722-46DF-A40E-E1EAEB20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E27-B2BC-4EF4-8F97-D1B2AF1D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2F2D-F5A2-4511-AD6F-E7E05C6A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AB00-9D3F-4EE4-9D1B-F903CD6E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3291-FD69-4792-BD80-B66B5161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1D7A-8AF1-46D6-B910-8A6E28D7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1E0E-4B93-487C-BFD2-AED673E8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57B7-8B75-42FC-97DD-6D95A74F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F449-9120-454A-BFE3-C2BAF5C0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6C7-182B-4909-B33D-4E2EF65A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774A-DCEA-4839-A478-E6491788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E558-5F22-4383-A9D1-8891412C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39F7-F927-4C38-8E09-9C5121CC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5746-EE25-4130-B4BC-4E0B4AA4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57C2-A067-48BE-A638-37060C61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171-F5E0-4BAE-B0AC-E35A0A5D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11C-9EDF-4D11-B466-2D6859DE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8F2-3AA9-4A89-B59A-A9E707A6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E85-2D77-479E-9C1A-4E34513F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716-6802-4D7E-9538-89293F27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A59-8D9D-4119-AB0B-1F060452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32A-23BD-490A-B899-40B6D8FD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8E90-4C5C-4E0A-814B-06DC4DC9A5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F1F6-DE62-4406-9017-450226EB09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95360" y="2886120"/>
            <a:ext cx="815328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YSTEMS OF THE HUMAN BOD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362520" y="621360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reated by:  Betty Jo Leona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153280" y="6172200"/>
          <a:ext cx="571680" cy="2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53280" y="6172200"/>
                    <a:ext cx="5716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2760" y="-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9960" y="225360"/>
            <a:ext cx="68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RESPIRATORY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arrow15" descr=""/>
          <p:cNvPicPr/>
          <p:nvPr/>
        </p:nvPicPr>
        <p:blipFill>
          <a:blip r:embed="rId1"/>
          <a:stretch/>
        </p:blipFill>
        <p:spPr>
          <a:xfrm>
            <a:off x="8077320" y="6019920"/>
            <a:ext cx="571320" cy="285480"/>
          </a:xfrm>
          <a:prstGeom prst="rect">
            <a:avLst/>
          </a:prstGeom>
          <a:ln w="0">
            <a:noFill/>
          </a:ln>
        </p:spPr>
      </p:pic>
      <p:pic>
        <p:nvPicPr>
          <p:cNvPr id="151" name="lungs" descr=""/>
          <p:cNvPicPr/>
          <p:nvPr/>
        </p:nvPicPr>
        <p:blipFill>
          <a:blip r:embed="rId2"/>
          <a:stretch/>
        </p:blipFill>
        <p:spPr>
          <a:xfrm>
            <a:off x="2514600" y="3429000"/>
            <a:ext cx="34639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90360" y="-3240"/>
            <a:ext cx="52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Respiratory System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90720" y="1581120"/>
            <a:ext cx="36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Exchanges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92160" y="2495520"/>
            <a:ext cx="923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03680" y="34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3124080"/>
            <a:ext cx="663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rbon dioxide       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657600"/>
            <a:ext cx="836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between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57200" y="4400640"/>
            <a:ext cx="344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blood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32800" y="5772240"/>
            <a:ext cx="49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76160" y="5086440"/>
            <a:ext cx="267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4040" y="1962000"/>
            <a:ext cx="566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oxyge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arrow15" descr=""/>
          <p:cNvPicPr/>
          <p:nvPr/>
        </p:nvPicPr>
        <p:blipFill>
          <a:blip r:embed="rId1"/>
          <a:stretch/>
        </p:blipFill>
        <p:spPr>
          <a:xfrm>
            <a:off x="7848720" y="6248520"/>
            <a:ext cx="57132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23800" y="149400"/>
            <a:ext cx="64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EXCRETORY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arrow15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571680" cy="285840"/>
          </a:xfrm>
          <a:prstGeom prst="rect">
            <a:avLst/>
          </a:prstGeom>
          <a:ln w="0">
            <a:noFill/>
          </a:ln>
        </p:spPr>
      </p:pic>
      <p:pic>
        <p:nvPicPr>
          <p:cNvPr id="165" name="kidney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4572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Excretory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0160" y="1733400"/>
            <a:ext cx="320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Removes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8640" y="2743200"/>
            <a:ext cx="166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75480" y="3029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520" y="4038480"/>
            <a:ext cx="214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liquid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4120" y="335268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33760" y="4781520"/>
            <a:ext cx="221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waste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arrow15" descr=""/>
          <p:cNvPicPr/>
          <p:nvPr/>
        </p:nvPicPr>
        <p:blipFill>
          <a:blip r:embed="rId1"/>
          <a:stretch/>
        </p:blipFill>
        <p:spPr>
          <a:xfrm>
            <a:off x="8077320" y="6172200"/>
            <a:ext cx="57132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9600" y="149400"/>
            <a:ext cx="581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NERVOUS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05920" y="6248520"/>
          <a:ext cx="571320" cy="28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6248520"/>
                    <a:ext cx="57132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nerves" descr=""/>
          <p:cNvPicPr/>
          <p:nvPr/>
        </p:nvPicPr>
        <p:blipFill>
          <a:blip r:embed="rId3"/>
          <a:stretch/>
        </p:blipFill>
        <p:spPr>
          <a:xfrm>
            <a:off x="2209680" y="2133720"/>
            <a:ext cx="337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89080" y="730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20" y="0"/>
            <a:ext cx="444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Nervous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6120" y="1504800"/>
            <a:ext cx="60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Detects                  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572680" y="6572160"/>
          <a:ext cx="57132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2680" y="6572160"/>
                    <a:ext cx="5713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438280" y="2286000"/>
            <a:ext cx="544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sensation   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2819520"/>
            <a:ext cx="7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36576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ontrols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432432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ost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04440" y="4629240"/>
            <a:ext cx="301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func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19600" y="-7920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ENDOCRINE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2760" y="158112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05920" y="6572160"/>
          <a:ext cx="57132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6572160"/>
                    <a:ext cx="5713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pancreas" descr=""/>
          <p:cNvPicPr/>
          <p:nvPr/>
        </p:nvPicPr>
        <p:blipFill>
          <a:blip r:embed="rId3"/>
          <a:stretch/>
        </p:blipFill>
        <p:spPr>
          <a:xfrm>
            <a:off x="2209680" y="2625840"/>
            <a:ext cx="34671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80" y="0"/>
            <a:ext cx="480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Endocrine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838080" y="19051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Regulate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572680" y="6324480"/>
          <a:ext cx="57132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2680" y="6324480"/>
                    <a:ext cx="5713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828440" y="2743200"/>
            <a:ext cx="392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etabolism,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73392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reproducti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45720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4952880"/>
            <a:ext cx="193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other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5715000"/>
            <a:ext cx="362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func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9960" y="-79200"/>
            <a:ext cx="727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REPRODUCTIVE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276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1880" y="6248520"/>
          <a:ext cx="571680" cy="28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6248520"/>
                    <a:ext cx="57168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male" descr=""/>
          <p:cNvPicPr/>
          <p:nvPr/>
        </p:nvPicPr>
        <p:blipFill>
          <a:blip r:embed="rId3"/>
          <a:stretch/>
        </p:blipFill>
        <p:spPr>
          <a:xfrm>
            <a:off x="1752480" y="2819520"/>
            <a:ext cx="1719360" cy="2098440"/>
          </a:xfrm>
          <a:prstGeom prst="rect">
            <a:avLst/>
          </a:prstGeom>
          <a:ln w="0">
            <a:noFill/>
          </a:ln>
        </p:spPr>
      </p:pic>
      <p:pic>
        <p:nvPicPr>
          <p:cNvPr id="207" name="female" descr=""/>
          <p:cNvPicPr/>
          <p:nvPr/>
        </p:nvPicPr>
        <p:blipFill>
          <a:blip r:embed="rId4"/>
          <a:stretch/>
        </p:blipFill>
        <p:spPr>
          <a:xfrm>
            <a:off x="5257800" y="3429000"/>
            <a:ext cx="17082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60" y="0"/>
            <a:ext cx="545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Reproductive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33400"/>
            <a:ext cx="361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Performs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8077320" y="6248520"/>
          <a:ext cx="571320" cy="28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6248520"/>
                    <a:ext cx="57132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533520" y="259092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reproduction,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8640" y="3429000"/>
            <a:ext cx="263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ontrol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42670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al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8120" y="4343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0080" y="4267080"/>
            <a:ext cx="225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femal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334120"/>
            <a:ext cx="399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functions 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0" y="5851440"/>
            <a:ext cx="96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&amp;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720" y="5851440"/>
            <a:ext cx="314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behavior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762120"/>
            <a:ext cx="26863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7840" y="73080"/>
            <a:ext cx="59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SKELETAL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SKELETON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895480" cy="40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8305920" y="6248520"/>
          <a:ext cx="571320" cy="28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05920" y="6248520"/>
                    <a:ext cx="57132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6640" y="-3240"/>
            <a:ext cx="552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IMMUNE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8153280" y="6248520"/>
          <a:ext cx="571680" cy="28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248520"/>
                    <a:ext cx="57168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immune" descr=""/>
          <p:cNvPicPr/>
          <p:nvPr/>
        </p:nvPicPr>
        <p:blipFill>
          <a:blip r:embed="rId3"/>
          <a:stretch/>
        </p:blipFill>
        <p:spPr>
          <a:xfrm>
            <a:off x="2438280" y="2514600"/>
            <a:ext cx="3927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520" y="0"/>
            <a:ext cx="44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Immune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400" y="1657440"/>
            <a:ext cx="392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ontrols th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2720" y="411480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440" y="5334120"/>
            <a:ext cx="450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fights  diseas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8153280" y="6172200"/>
          <a:ext cx="5716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172200"/>
                    <a:ext cx="5716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1371600" y="2819520"/>
            <a:ext cx="553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immune respons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74400" y="-79200"/>
            <a:ext cx="793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 INTEGUMENTARY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8077320" y="6248520"/>
          <a:ext cx="571320" cy="28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6248520"/>
                    <a:ext cx="57132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4" name="skin" descr=""/>
          <p:cNvPicPr/>
          <p:nvPr/>
        </p:nvPicPr>
        <p:blipFill>
          <a:blip r:embed="rId3"/>
          <a:stretch/>
        </p:blipFill>
        <p:spPr>
          <a:xfrm>
            <a:off x="1828800" y="2743200"/>
            <a:ext cx="453060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520" y="0"/>
            <a:ext cx="631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 Integumentary System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1080" y="682560"/>
            <a:ext cx="145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(Skin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6800" y="1581120"/>
            <a:ext cx="282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Protects,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2840" y="2438280"/>
            <a:ext cx="31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Regulate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94400" y="2952720"/>
            <a:ext cx="407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Temperatur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2320" y="4572000"/>
            <a:ext cx="299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Prevents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5334120"/>
            <a:ext cx="34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Water los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4280" y="365760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3" name="arrow15" descr=""/>
          <p:cNvPicPr/>
          <p:nvPr/>
        </p:nvPicPr>
        <p:blipFill>
          <a:blip r:embed="rId1"/>
          <a:stretch/>
        </p:blipFill>
        <p:spPr>
          <a:xfrm>
            <a:off x="8153280" y="6248520"/>
            <a:ext cx="57168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3840" y="7308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Skeletal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200" y="150480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95280" y="19620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4760" y="2571840"/>
            <a:ext cx="37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30800" y="2571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316400"/>
            <a:ext cx="815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produces blood cell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0240" y="58514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31200" y="5230800"/>
            <a:ext cx="553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stores mineral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080" y="2647800"/>
            <a:ext cx="295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supports,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240" y="3409920"/>
            <a:ext cx="748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llows movement,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1886040"/>
            <a:ext cx="38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Protects,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4495680"/>
            <a:ext cx="12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153280" y="6248520"/>
          <a:ext cx="571680" cy="28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248520"/>
                    <a:ext cx="57168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MUSCULAR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muscle_intro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1896840" cy="4365720"/>
          </a:xfrm>
          <a:prstGeom prst="rect">
            <a:avLst/>
          </a:prstGeom>
          <a:ln w="0">
            <a:noFill/>
          </a:ln>
        </p:spPr>
      </p:pic>
      <p:pic>
        <p:nvPicPr>
          <p:cNvPr id="116" name="arrow14" descr=""/>
          <p:cNvPicPr/>
          <p:nvPr/>
        </p:nvPicPr>
        <p:blipFill>
          <a:blip r:embed="rId2"/>
          <a:stretch/>
        </p:blipFill>
        <p:spPr>
          <a:xfrm>
            <a:off x="8153280" y="5943600"/>
            <a:ext cx="6098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72480" y="453960"/>
            <a:ext cx="464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Muscular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840" y="2666880"/>
            <a:ext cx="750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llows body movemen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3809880"/>
            <a:ext cx="1026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aintains postur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3733920"/>
            <a:ext cx="7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077320" y="6019920"/>
          <a:ext cx="571320" cy="28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6019920"/>
                    <a:ext cx="57132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0"/>
            <a:ext cx="63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DIGESTIVE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intestine" descr=""/>
          <p:cNvPicPr/>
          <p:nvPr/>
        </p:nvPicPr>
        <p:blipFill>
          <a:blip r:embed="rId1"/>
          <a:stretch/>
        </p:blipFill>
        <p:spPr>
          <a:xfrm>
            <a:off x="2514600" y="2411280"/>
            <a:ext cx="3417840" cy="4446720"/>
          </a:xfrm>
          <a:prstGeom prst="rect">
            <a:avLst/>
          </a:prstGeom>
          <a:ln w="0">
            <a:noFill/>
          </a:ln>
        </p:spPr>
      </p:pic>
      <p:pic>
        <p:nvPicPr>
          <p:cNvPr id="125" name="arrow15" descr=""/>
          <p:cNvPicPr/>
          <p:nvPr/>
        </p:nvPicPr>
        <p:blipFill>
          <a:blip r:embed="rId2"/>
          <a:stretch/>
        </p:blipFill>
        <p:spPr>
          <a:xfrm>
            <a:off x="7848720" y="5791320"/>
            <a:ext cx="57132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19120" y="301680"/>
            <a:ext cx="466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Digestive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209680"/>
            <a:ext cx="563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llows the body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3124080"/>
            <a:ext cx="454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to break dow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5520" y="4114800"/>
            <a:ext cx="286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food an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5105520"/>
            <a:ext cx="310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nutrients!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arrow15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5716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95920" y="225360"/>
            <a:ext cx="70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CIRCULATORY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040" y="17334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33920" y="2633760"/>
          <a:ext cx="1676160" cy="15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633760"/>
                    <a:ext cx="167616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001000" y="6095880"/>
          <a:ext cx="571680" cy="2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1000" y="6095880"/>
                    <a:ext cx="5716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heart" descr=""/>
          <p:cNvPicPr/>
          <p:nvPr/>
        </p:nvPicPr>
        <p:blipFill>
          <a:blip r:embed="rId5"/>
          <a:stretch/>
        </p:blipFill>
        <p:spPr>
          <a:xfrm>
            <a:off x="2286000" y="2895480"/>
            <a:ext cx="4332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90160" y="149400"/>
            <a:ext cx="503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Circulatory Syst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720" y="1828800"/>
            <a:ext cx="63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Transports nutrient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120" y="2819520"/>
            <a:ext cx="84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wastes, and other material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4760" y="3886200"/>
            <a:ext cx="68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nd plays a role in th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360" y="4952880"/>
            <a:ext cx="498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immune system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05920" y="6248520"/>
          <a:ext cx="571320" cy="28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6248520"/>
                    <a:ext cx="57132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5:58:58Z</dcterms:created>
  <dc:creator>Jefferson County Schools</dc:creator>
  <dc:description/>
  <dc:language>en-US</dc:language>
  <cp:lastModifiedBy>Jefferson County Schools</cp:lastModifiedBy>
  <dcterms:modified xsi:type="dcterms:W3CDTF">2000-01-18T14:54:51Z</dcterms:modified>
  <cp:revision>28</cp:revision>
  <dc:subject/>
  <dc:title>PowerPoint Presentation</dc:title>
</cp:coreProperties>
</file>